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801600" cy="9601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2F75-82CD-496A-B88B-38A420D7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896148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879280" y="6189120"/>
            <a:ext cx="896148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5C1-499B-4E8A-AE44-D6A3548C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879280" y="618912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71080" y="618912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539-C44E-4E33-BDB1-9ADF72D9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909400" y="490680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939520" y="490680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879280" y="618912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5909400" y="618912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939520" y="618912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8B0-FB5F-4790-A39F-7F49169F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2114-F101-4774-AFE1-F6047427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879280" y="4906800"/>
            <a:ext cx="8961480" cy="24544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9911-01F0-400D-95B9-2FB9D976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896148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6B80-7904-47B5-8234-106959E4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8B9C-363E-4408-A130-57E30816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E582-8036-4907-BC9D-EB728FBA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0480" y="1706040"/>
            <a:ext cx="10880640" cy="125485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32E5-D4A7-42DC-BBEA-B2E92C39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879280" y="618912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7D7B-815F-4666-8D0C-0A73EA83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879280" y="4906800"/>
            <a:ext cx="8961480" cy="24544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5F3-965A-47F9-820B-E500FB24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471080" y="618912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3E65F-E725-4BD8-A062-335C1D97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879280" y="6189120"/>
            <a:ext cx="896148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CB4D-0D34-4322-A155-075AF438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896148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79280" y="6189120"/>
            <a:ext cx="896148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C82B-76AD-488B-BB71-B50661A5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879280" y="618912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471080" y="618912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30B2-51C7-45A8-852D-308F8A0C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909400" y="490680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939520" y="490680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879280" y="618912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5909400" y="618912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8939520" y="6189120"/>
            <a:ext cx="288540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1E23-E293-4CE2-82AB-DCE9A9BD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896148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DA7C-35B8-41AC-BF3D-BAABF458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393-F144-40AF-A67E-B09ADCAA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04A-FD5B-4F72-9775-C9F255A9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60480" y="1706040"/>
            <a:ext cx="10880640" cy="125485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algn="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3FD-9612-49C3-8BC8-F2833CF8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879280" y="618912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BEF-94E2-489D-BA96-54EAA20F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24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471080" y="618912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27B-80C0-40F2-86CC-60479B50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792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471080" y="4906800"/>
            <a:ext cx="437292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879280" y="6189120"/>
            <a:ext cx="8961480" cy="11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53DD-53D4-4ACF-A036-C6219632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99760" y="426960"/>
            <a:ext cx="10661400" cy="1548720"/>
            <a:chOff x="1499760" y="426960"/>
            <a:chExt cx="10661400" cy="1548720"/>
          </a:xfrm>
        </p:grpSpPr>
        <p:sp>
          <p:nvSpPr>
            <p:cNvPr id="1" name=""/>
            <p:cNvSpPr/>
            <p:nvPr/>
          </p:nvSpPr>
          <p:spPr>
            <a:xfrm flipH="1">
              <a:off x="6816240" y="426960"/>
              <a:ext cx="1546560" cy="154692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10616040" y="426960"/>
              <a:ext cx="1544760" cy="154692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499400" y="428760"/>
              <a:ext cx="1544040" cy="154692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8853480" y="426960"/>
              <a:ext cx="1544760" cy="1546920"/>
            </a:xfrm>
            <a:prstGeom prst="ellipse">
              <a:avLst/>
            </a:pr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3301560" y="426960"/>
              <a:ext cx="1544760" cy="1546920"/>
            </a:xfrm>
            <a:prstGeom prst="ellipse">
              <a:avLst/>
            </a:pr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639720" y="2239560"/>
            <a:ext cx="11522160" cy="63435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/>
          </a:bodyPr>
          <a:p>
            <a:pPr marL="479520" indent="-479520">
              <a:spcBef>
                <a:spcPts val="1125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1125"/>
              </a:spcBef>
              <a:buClr>
                <a:srgbClr val="9bb0cb"/>
              </a:buClr>
              <a:buSzPct val="70000"/>
              <a:buFont typeface="Wingdings" charset="2"/>
              <a:buChar char="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1125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1125"/>
              </a:spcBef>
              <a:buClr>
                <a:srgbClr val="9bb0cb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1125"/>
              </a:spcBef>
              <a:buClr>
                <a:srgbClr val="9bb0cb"/>
              </a:buClr>
              <a:buFont typeface="Wingdings" charset="2"/>
              <a:buChar char="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1125"/>
              </a:spcBef>
              <a:buClr>
                <a:srgbClr val="000000"/>
              </a:buClr>
              <a:buFont typeface="Wingdings" charset="2"/>
              <a:buChar char="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39360" y="8746920"/>
            <a:ext cx="2987640" cy="64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marL="216000"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4373640" y="8746920"/>
            <a:ext cx="4054320" cy="64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marL="216000"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9173880" y="8746920"/>
            <a:ext cx="2987640" cy="64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marL="216000"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D56AFF58-F156-47BE-85AB-3EFE76427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ctr">
            <a:noAutofit/>
          </a:bodyPr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322360" y="2239920"/>
            <a:ext cx="9572400" cy="4481280"/>
            <a:chOff x="2322360" y="2239920"/>
            <a:chExt cx="9572400" cy="4481280"/>
          </a:xfrm>
        </p:grpSpPr>
        <p:sp>
          <p:nvSpPr>
            <p:cNvPr id="48" name=""/>
            <p:cNvSpPr/>
            <p:nvPr/>
          </p:nvSpPr>
          <p:spPr>
            <a:xfrm flipH="1">
              <a:off x="9761400" y="2239920"/>
              <a:ext cx="2133360" cy="213372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253280" y="2239920"/>
              <a:ext cx="2133720" cy="213372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746240" y="2239920"/>
              <a:ext cx="2133720" cy="2133720"/>
            </a:xfrm>
            <a:prstGeom prst="ellipse">
              <a:avLst/>
            </a:pr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4746240" y="4587480"/>
              <a:ext cx="2133720" cy="213372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322360" y="4587480"/>
              <a:ext cx="2133360" cy="213372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9761400" y="4587480"/>
              <a:ext cx="2133360" cy="2133720"/>
            </a:xfrm>
            <a:prstGeom prst="ellipse">
              <a:avLst/>
            </a:pr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8160" rIns="128160" tIns="64080" bIns="6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639360" y="8746920"/>
            <a:ext cx="2987640" cy="64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marL="216000"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4373640" y="8746920"/>
            <a:ext cx="4054320" cy="64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marL="216000"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9173880" y="8746920"/>
            <a:ext cx="2987640" cy="6411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marL="216000"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45BC8860-D536-4737-920D-113EB43DA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0480" y="1706040"/>
            <a:ext cx="10880640" cy="27068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640080" y="2246400"/>
            <a:ext cx="1152108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0" algn="ctr">
              <a:spcBef>
                <a:spcPts val="950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79440" algn="ctr">
              <a:spcBef>
                <a:spcPts val="799"/>
              </a:spcBef>
              <a:buClr>
                <a:srgbClr val="9bb0cb"/>
              </a:buClr>
              <a:buSzPct val="65000"/>
              <a:buFont typeface="Wingdings" charset="2"/>
              <a:buChar char=""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20960" algn="ctr">
              <a:spcBef>
                <a:spcPts val="700"/>
              </a:spcBef>
              <a:buClr>
                <a:srgbClr val="9bb0cb"/>
              </a:buClr>
              <a:buFont typeface="Arial"/>
              <a:buChar char="•"/>
              <a:tabLst>
                <a:tab algn="l" pos="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560680" algn="ctr">
              <a:spcBef>
                <a:spcPts val="700"/>
              </a:spcBef>
              <a:buClr>
                <a:srgbClr val="9bb0cb"/>
              </a:buClr>
              <a:buFont typeface="Wingdings" charset="2"/>
              <a:buChar char=""/>
              <a:tabLst>
                <a:tab algn="l" pos="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60680"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560680"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5720" y="552600"/>
            <a:ext cx="10880640" cy="1341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o-RO" sz="7200" spc="-1" strike="noStrike">
                <a:solidFill>
                  <a:srgbClr val="3333ff"/>
                </a:solidFill>
                <a:latin typeface="Comic Sans MS"/>
              </a:rPr>
              <a:t>SEMNUL ÎNTREBĂRI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0" y="2063520"/>
            <a:ext cx="12801600" cy="1584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o-RO" sz="4400" spc="-1" strike="noStrike">
                <a:solidFill>
                  <a:srgbClr val="000000"/>
                </a:solidFill>
                <a:latin typeface="Verdana"/>
              </a:rPr>
              <a:t>Semnul întrebării se foloseşte la sfârşitul  unei întrebăr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855360" y="7032240"/>
            <a:ext cx="9720360" cy="1655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rmAutofit fontScale="84000"/>
          </a:bodyPr>
          <a:p>
            <a:pPr marL="402480" indent="0" algn="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 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L-aţi văzut cumva pe Zdreanţă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?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2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T. Arghezi – “Zdreanţă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0206800">
            <a:off x="265680" y="3666960"/>
            <a:ext cx="6480000" cy="29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Unde eşti, Patrocle</a:t>
            </a:r>
            <a:r>
              <a:rPr b="1" lang="ro-RO" sz="6000" spc="-1" strike="noStrike">
                <a:solidFill>
                  <a:srgbClr val="3333ff"/>
                </a:solidFill>
                <a:latin typeface="Monotype Corsiva"/>
              </a:rPr>
              <a:t>?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M. Sadoveanu – “Dumbrava minunată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61160" y="6529320"/>
            <a:ext cx="439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158600">
            <a:off x="5580720" y="3811320"/>
            <a:ext cx="69134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Ce te legeni, codrule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Fără ploaie, fără vânt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?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M. Eminescu – “Ce te legeni...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5720" y="407520"/>
            <a:ext cx="10880640" cy="136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o-RO" sz="7200" spc="-1" strike="noStrike">
                <a:solidFill>
                  <a:srgbClr val="3333ff"/>
                </a:solidFill>
                <a:latin typeface="Comic Sans MS"/>
              </a:rPr>
              <a:t>LINIA DE DIAL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0" y="1991880"/>
            <a:ext cx="12801600" cy="1584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Linia de dialog se foloseşte la începutul vorbirii fiecărei persoane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9720" y="4224240"/>
            <a:ext cx="10729800" cy="50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 </a:t>
            </a:r>
            <a:r>
              <a:rPr b="1" lang="en-US" sz="6600" spc="-1" strike="noStrike">
                <a:solidFill>
                  <a:srgbClr val="3333ff"/>
                </a:solidFill>
                <a:latin typeface="Monotype Corsiva"/>
              </a:rPr>
              <a:t>-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 Ia-i, dragă, dacă ne iubeşti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   </a:t>
            </a:r>
            <a:r>
              <a:rPr b="1" lang="en-US" sz="5400" spc="-1" strike="noStrike">
                <a:solidFill>
                  <a:srgbClr val="3333ff"/>
                </a:solidFill>
                <a:latin typeface="Monotype Corsiva"/>
              </a:rPr>
              <a:t>- 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mai fi trist, Apolodor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   </a:t>
            </a:r>
            <a:r>
              <a:rPr b="1" lang="ro-RO" sz="5400" spc="-1" strike="noStrike">
                <a:solidFill>
                  <a:srgbClr val="3333ff"/>
                </a:solidFill>
                <a:latin typeface="Monotype Corsiva"/>
              </a:rPr>
              <a:t>-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Ţi-i dăm pe toţi, dacă zâmbeşti..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Gellu Naum, “Cartea cu Apolodo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0080" y="263160"/>
            <a:ext cx="10880640" cy="129708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o-RO" sz="7200" spc="-1" strike="noStrike">
                <a:solidFill>
                  <a:srgbClr val="3333ff"/>
                </a:solidFill>
                <a:latin typeface="Comic Sans MS"/>
              </a:rPr>
              <a:t>DOUĂ PUNC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1344600"/>
            <a:ext cx="12801600" cy="2664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Scriem două puncte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când urmează cuvintele unei persoane;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bb0cb"/>
              </a:buClr>
              <a:buSzPct val="80000"/>
              <a:buFont typeface="Wingdings" charset="2"/>
              <a:buChar char="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când urmează o enumerare.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863880"/>
            <a:ext cx="102456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Moşneagul îşi pierdu răbdarea şi zise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Monotype Corsiva"/>
              <a:buChar char="-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Ia dă-mi şi mie nişte ouă, ca să-mi prind pofta măcar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I. Creangă, “Punguţa cu doi bani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84520" y="6888240"/>
            <a:ext cx="11017080" cy="33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Stau grămădite fel de fel de jucării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: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 pe două mese, pe canapea, pe fotolii, pe jos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I. L. Caragiale, “Vizită...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28800" y="552240"/>
            <a:ext cx="10880640" cy="136836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o-RO" sz="7200" spc="-1" strike="noStrike">
                <a:solidFill>
                  <a:srgbClr val="3333ff"/>
                </a:solidFill>
                <a:latin typeface="Comic Sans MS"/>
              </a:rPr>
              <a:t>SEMNUL EXCLAMĂRI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0" y="2208240"/>
            <a:ext cx="12801600" cy="201600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La sfârşitul enunţurilor care exprimă o exclamare (o mirare sau o bucurie), o poruncă, un sfat, un salut se scrie </a:t>
            </a:r>
            <a:r>
              <a:rPr b="0" i="1" lang="ro-RO" sz="4500" spc="-1" strike="noStrike">
                <a:solidFill>
                  <a:srgbClr val="000000"/>
                </a:solidFill>
                <a:latin typeface="Arial"/>
              </a:rPr>
              <a:t>semnul exclamării</a:t>
            </a: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0689800">
            <a:off x="382320" y="4641840"/>
            <a:ext cx="7272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Ce frumos era în crânguri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!</a:t>
            </a:r>
            <a:r>
              <a:rPr b="0" lang="ro-RO" sz="6600" spc="-1" strike="noStrike">
                <a:solidFill>
                  <a:srgbClr val="ff0066"/>
                </a:solidFill>
                <a:latin typeface="Monotype Corsiva"/>
              </a:rPr>
              <a:t>” </a:t>
            </a: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M. Eminescu – “Freamăt de codru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29160" y="5952960"/>
            <a:ext cx="734364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Să nu-l scapi pe fereastră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!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I. L. Caragiale – “Bubico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47720" y="7248600"/>
            <a:ext cx="61214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Să trăieşti, Măria-Ta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!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I. Creangă – “Moş Ion Roată şi Vodă Cuza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0080" y="336240"/>
            <a:ext cx="10880640" cy="1439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ro-RO" sz="7200" spc="-1" strike="noStrike">
                <a:solidFill>
                  <a:srgbClr val="3333ff"/>
                </a:solidFill>
                <a:latin typeface="Comic Sans MS"/>
              </a:rPr>
              <a:t>PUNCTU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1775880"/>
            <a:ext cx="12801600" cy="151164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4500" spc="-1" strike="noStrike">
                <a:solidFill>
                  <a:srgbClr val="000000"/>
                </a:solidFill>
                <a:latin typeface="Arial"/>
              </a:rPr>
              <a:t>La sfârşitul propoziţiei prin care se comunică o constatare se scrie punct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1191400">
            <a:off x="48960" y="3429000"/>
            <a:ext cx="907272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Era odată o babă şi un moşneag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.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I. Creangă, “Punguţa cu doi bani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5016600"/>
            <a:ext cx="733752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Apolodor e-n Labrador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.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Gellu Naum, Cartea cu Apolodor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8440" y="6888240"/>
            <a:ext cx="12233160" cy="25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Cineva, nu se ştie din ce vagon, a tras semnalul de alarmă</a:t>
            </a:r>
            <a:r>
              <a:rPr b="1" lang="ro-RO" sz="6600" spc="-1" strike="noStrike">
                <a:solidFill>
                  <a:srgbClr val="3333ff"/>
                </a:solidFill>
                <a:latin typeface="Monotype Corsiva"/>
              </a:rPr>
              <a:t>.</a:t>
            </a:r>
            <a:r>
              <a:rPr b="0" lang="ro-RO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Monotype Corsiva"/>
              </a:rPr>
              <a:t>(I. L. Caragiale, “D-l Goe...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23:37:00Z</dcterms:created>
  <dc:creator>Cristi&amp;Adela</dc:creator>
  <dc:description/>
  <dc:language>en-US</dc:language>
  <cp:lastModifiedBy>IULIA</cp:lastModifiedBy>
  <dcterms:modified xsi:type="dcterms:W3CDTF">2010-01-18T16:24:45Z</dcterms:modified>
  <cp:revision>6</cp:revision>
  <dc:subject/>
  <dc:title>Slide 1</dc:title>
</cp:coreProperties>
</file>